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7FF4-E874-423F-9841-F24EE9F5D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063A-D987-42BD-B9C9-F0F5EBFDC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BFD9-4E58-4E85-BBCA-D17DFF046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085E-0B4A-4698-A338-8DE4EBF8C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9667-A650-4363-AAD3-66C072518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4AF4-A1AB-4937-BC66-CF63A6835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102F-584F-48DB-8ABF-40AC8EE7E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4F6C-88AB-4874-8F27-520344413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CD68-3137-4E16-9465-039867F43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16DB-C041-4DA9-996B-86813D128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580D-929F-48D7-9D7E-58288F96E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1733-FC4C-4649-906C-42A2CB4EE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B597-3E64-4515-8B50-6E47DF3B6C2B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0960" y="6521400"/>
            <a:ext cx="7150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MCN workshop, ISWC, 8</a:t>
            </a:r>
            <a:r>
              <a:rPr b="1" lang="it-IT" sz="1500" spc="-1" strike="noStrike" baseline="30000">
                <a:solidFill>
                  <a:srgbClr val="008484"/>
                </a:solidFill>
                <a:latin typeface="Arial"/>
              </a:rPr>
              <a:t>th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 November 2004, Hiroshima, Jap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6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0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080" y="1850760"/>
            <a:ext cx="812628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Element Level Semantic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7160" y="371772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6240" y="5530680"/>
            <a:ext cx="5614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Meaning Coordination and Negotiation Workshop, ISW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8</a:t>
            </a:r>
            <a:r>
              <a:rPr b="1" lang="it-IT" sz="1600" spc="-1" strike="noStrike" baseline="30000">
                <a:solidFill>
                  <a:srgbClr val="008484"/>
                </a:solidFill>
                <a:latin typeface="Arial"/>
              </a:rPr>
              <a:t>th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 November 2004, Hiroshima,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46240" y="4699080"/>
            <a:ext cx="42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aper by Fausto Giunchiglia and Mikalai Yatskev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1: compute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Translate natural language expressions into internal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mal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language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Compute concepts based on possible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sens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of words in a label and their interrelation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rocessing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okenization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Labels (according to punctuation, spaces, etc.) are parsed into token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Wine and Chees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&lt;wine, and, cheese&gt;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mmatization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Tokens are morphologically analyzed in order to find all their possible basic form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imag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imag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Building atomic concepts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An oracle (WordNet) is used to extract senses of lemmatized token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Image has 8 senses, 7 as a noun and 1 as a ver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Building complex concept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. Prepositions, conjunctions, etc. are translated into logical connectives and used to build complex concepts</a:t>
            </a:r>
            <a:br>
              <a:rPr sz="1600"/>
            </a:b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out of the atomic concept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E.g.,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C</a:t>
            </a:r>
            <a:r>
              <a:rPr b="0" i="1" lang="en-US" sz="16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Wine and Cheese</a:t>
            </a:r>
            <a:r>
              <a:rPr b="0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=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&lt;Wine, U(WN</a:t>
            </a:r>
            <a:r>
              <a:rPr b="1" lang="en-US" sz="16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Win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)&gt;     &lt;Cheese, U(WN</a:t>
            </a:r>
            <a:r>
              <a:rPr b="1" lang="en-US" sz="16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Chees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)&gt;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where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U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is a union of the senses that WordNet attaches to lemmatized token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968360" y="5537160"/>
            <a:ext cx="176760" cy="187560"/>
            <a:chOff x="4968360" y="5537160"/>
            <a:chExt cx="176760" cy="187560"/>
          </a:xfrm>
        </p:grpSpPr>
        <p:sp>
          <p:nvSpPr>
            <p:cNvPr id="216" name=""/>
            <p:cNvSpPr/>
            <p:nvPr/>
          </p:nvSpPr>
          <p:spPr>
            <a:xfrm flipV="1">
              <a:off x="5145120" y="5537160"/>
              <a:ext cx="0" cy="18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968720" y="5537160"/>
              <a:ext cx="0" cy="18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16" idx="0"/>
              <a:endCxn id="217" idx="0"/>
            </p:cNvCxnSpPr>
            <p:nvPr/>
          </p:nvCxnSpPr>
          <p:spPr>
            <a:xfrm flipH="1" flipV="1">
              <a:off x="4968360" y="5724000"/>
              <a:ext cx="177120" cy="1080"/>
            </a:xfrm>
            <a:prstGeom prst="straightConnector1">
              <a:avLst/>
            </a:prstGeom>
            <a:ln w="25560">
              <a:solidFill>
                <a:srgbClr val="80808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36DC-2DD3-422F-A249-8015C242AC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2: c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mpute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6436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extend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by capturing the knowledge residing in a structure of a graph in order to define a context in which the given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 at a label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occurs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Computation: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19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for some node </a:t>
            </a:r>
            <a:r>
              <a:rPr b="1" i="1" lang="it-IT" sz="1900" spc="-1" strike="noStrike">
                <a:solidFill>
                  <a:srgbClr val="008484"/>
                </a:solidFill>
                <a:latin typeface="Arial"/>
              </a:rPr>
              <a:t>n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is computed as a conjunction of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located above the given node, including the node itself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06600" y="3424320"/>
            <a:ext cx="5543640" cy="2328840"/>
            <a:chOff x="2406600" y="3424320"/>
            <a:chExt cx="5543640" cy="2328840"/>
          </a:xfrm>
        </p:grpSpPr>
        <p:sp>
          <p:nvSpPr>
            <p:cNvPr id="222" name=""/>
            <p:cNvSpPr/>
            <p:nvPr/>
          </p:nvSpPr>
          <p:spPr>
            <a:xfrm>
              <a:off x="5283360" y="43448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06600" y="3424320"/>
              <a:ext cx="4081320" cy="2328840"/>
              <a:chOff x="2406600" y="3424320"/>
              <a:chExt cx="4081320" cy="2328840"/>
            </a:xfrm>
          </p:grpSpPr>
          <p:sp>
            <p:nvSpPr>
              <p:cNvPr id="224" name=""/>
              <p:cNvSpPr/>
              <p:nvPr/>
            </p:nvSpPr>
            <p:spPr>
              <a:xfrm>
                <a:off x="2606400" y="5354280"/>
                <a:ext cx="179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71640" y="3424320"/>
                <a:ext cx="16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6" name=""/>
              <p:cNvCxnSpPr>
                <a:stCxn id="227" idx="4"/>
                <a:endCxn id="228" idx="0"/>
              </p:cNvCxnSpPr>
              <p:nvPr/>
            </p:nvCxnSpPr>
            <p:spPr>
              <a:xfrm>
                <a:off x="3904560" y="4670280"/>
                <a:ext cx="1080" cy="600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29" name=""/>
              <p:cNvCxnSpPr>
                <a:stCxn id="230" idx="4"/>
                <a:endCxn id="227" idx="0"/>
              </p:cNvCxnSpPr>
              <p:nvPr/>
            </p:nvCxnSpPr>
            <p:spPr>
              <a:xfrm flipH="1">
                <a:off x="3904200" y="4025160"/>
                <a:ext cx="605880" cy="402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1" name=""/>
              <p:cNvSpPr/>
              <p:nvPr/>
            </p:nvSpPr>
            <p:spPr>
              <a:xfrm>
                <a:off x="4859280" y="5308200"/>
                <a:ext cx="162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2" name=""/>
              <p:cNvCxnSpPr>
                <a:stCxn id="233" idx="4"/>
                <a:endCxn id="234" idx="0"/>
              </p:cNvCxnSpPr>
              <p:nvPr/>
            </p:nvCxnSpPr>
            <p:spPr>
              <a:xfrm>
                <a:off x="5171760" y="4670280"/>
                <a:ext cx="13680" cy="600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2406600" y="4344840"/>
                <a:ext cx="161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6" name=""/>
              <p:cNvCxnSpPr>
                <a:stCxn id="230" idx="4"/>
                <a:endCxn id="233" idx="0"/>
              </p:cNvCxnSpPr>
              <p:nvPr/>
            </p:nvCxnSpPr>
            <p:spPr>
              <a:xfrm>
                <a:off x="4510080" y="4025160"/>
                <a:ext cx="662400" cy="402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0" name=""/>
              <p:cNvSpPr/>
              <p:nvPr/>
            </p:nvSpPr>
            <p:spPr>
              <a:xfrm>
                <a:off x="4387680" y="3782880"/>
                <a:ext cx="24300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84320" y="4427280"/>
                <a:ext cx="241560" cy="24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51160" y="4427280"/>
                <a:ext cx="241560" cy="24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84320" y="5270400"/>
                <a:ext cx="24156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62320" y="5270400"/>
                <a:ext cx="24300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1117440" y="5969160"/>
            <a:ext cx="6286680" cy="475200"/>
            <a:chOff x="1117440" y="5969160"/>
            <a:chExt cx="6286680" cy="475200"/>
          </a:xfrm>
        </p:grpSpPr>
        <p:sp>
          <p:nvSpPr>
            <p:cNvPr id="238" name=""/>
            <p:cNvSpPr/>
            <p:nvPr/>
          </p:nvSpPr>
          <p:spPr>
            <a:xfrm>
              <a:off x="1117440" y="5969160"/>
              <a:ext cx="62866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    </a:t>
              </a: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C</a:t>
              </a:r>
              <a:r>
                <a:rPr b="1" i="1" lang="it-IT" sz="2200" spc="-1" strike="noStrike" baseline="-25000">
                  <a:solidFill>
                    <a:srgbClr val="800000"/>
                  </a:solidFill>
                  <a:latin typeface="Arial"/>
                </a:rPr>
                <a:t>4</a:t>
              </a:r>
              <a:r>
                <a:rPr b="1" lang="it-IT" sz="2200" spc="-1" strike="noStrike" baseline="-25000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777777"/>
                  </a:solidFill>
                  <a:latin typeface="Arial"/>
                </a:rPr>
                <a:t>= 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Europe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Pictures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Ita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074760" y="6108480"/>
              <a:ext cx="1492560" cy="211320"/>
              <a:chOff x="3074760" y="6108480"/>
              <a:chExt cx="1492560" cy="211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3074760" y="6108480"/>
                <a:ext cx="227160" cy="211320"/>
                <a:chOff x="3074760" y="6108480"/>
                <a:chExt cx="227160" cy="211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0747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3015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3" name=""/>
                <p:cNvCxnSpPr>
                  <a:stCxn id="241" idx="0"/>
                  <a:endCxn id="242" idx="0"/>
                </p:cNvCxnSpPr>
                <p:nvPr/>
              </p:nvCxnSpPr>
              <p:spPr>
                <a:xfrm>
                  <a:off x="3074760" y="6108480"/>
                  <a:ext cx="22752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  <p:grpSp>
            <p:nvGrpSpPr>
              <p:cNvPr id="244" name=""/>
              <p:cNvGrpSpPr/>
              <p:nvPr/>
            </p:nvGrpSpPr>
            <p:grpSpPr>
              <a:xfrm>
                <a:off x="4340160" y="6108480"/>
                <a:ext cx="227160" cy="211320"/>
                <a:chOff x="4340160" y="6108480"/>
                <a:chExt cx="227160" cy="211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3401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566960" y="611208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7" name=""/>
                <p:cNvCxnSpPr>
                  <a:stCxn id="245" idx="0"/>
                  <a:endCxn id="246" idx="0"/>
                </p:cNvCxnSpPr>
                <p:nvPr/>
              </p:nvCxnSpPr>
              <p:spPr>
                <a:xfrm>
                  <a:off x="4340160" y="6108480"/>
                  <a:ext cx="22752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9E4C-D60A-4141-94D8-3D626746E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5280" y="1015560"/>
            <a:ext cx="7035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ep 3: compute relations betwee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7920" y="1587600"/>
            <a:ext cx="87757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xploit a priori knowledge,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.g., lexical, domain knowledge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ith the help of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element level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emantic matcher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Results of step 3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60" y="13849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500120"/>
            <a:ext cx="6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500120"/>
            <a:ext cx="72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500120"/>
            <a:ext cx="72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368960"/>
            <a:ext cx="9360" cy="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172040" y="1512720"/>
            <a:ext cx="4971960" cy="2030760"/>
            <a:chOff x="4172040" y="1512720"/>
            <a:chExt cx="4971960" cy="2030760"/>
          </a:xfrm>
        </p:grpSpPr>
        <p:sp>
          <p:nvSpPr>
            <p:cNvPr id="257" name=""/>
            <p:cNvSpPr/>
            <p:nvPr/>
          </p:nvSpPr>
          <p:spPr>
            <a:xfrm>
              <a:off x="6432480" y="3267000"/>
              <a:ext cx="12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70840" y="1863720"/>
              <a:ext cx="117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60" idx="4"/>
              <a:endCxn id="261" idx="0"/>
            </p:cNvCxnSpPr>
            <p:nvPr/>
          </p:nvCxnSpPr>
          <p:spPr>
            <a:xfrm>
              <a:off x="7332480" y="2768400"/>
              <a:ext cx="1080" cy="43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63" idx="4"/>
              <a:endCxn id="260" idx="0"/>
            </p:cNvCxnSpPr>
            <p:nvPr/>
          </p:nvCxnSpPr>
          <p:spPr>
            <a:xfrm flipH="1">
              <a:off x="7332480" y="2300040"/>
              <a:ext cx="419760" cy="291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"/>
            <p:cNvSpPr/>
            <p:nvPr/>
          </p:nvSpPr>
          <p:spPr>
            <a:xfrm>
              <a:off x="8228520" y="2448000"/>
              <a:ext cx="91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Wine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Chee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96320" y="3233880"/>
              <a:ext cx="11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6" name=""/>
            <p:cNvCxnSpPr>
              <a:stCxn id="267" idx="4"/>
              <a:endCxn id="268" idx="0"/>
            </p:cNvCxnSpPr>
            <p:nvPr/>
          </p:nvCxnSpPr>
          <p:spPr>
            <a:xfrm>
              <a:off x="8212320" y="2768400"/>
              <a:ext cx="8640" cy="43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6292440" y="2531520"/>
              <a:ext cx="112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Pic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4"/>
              <a:endCxn id="267" idx="0"/>
            </p:cNvCxnSpPr>
            <p:nvPr/>
          </p:nvCxnSpPr>
          <p:spPr>
            <a:xfrm>
              <a:off x="7751880" y="2300040"/>
              <a:ext cx="460440" cy="291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7667640" y="212400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8240" y="259200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27720" y="259200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48240" y="320544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5640" y="32054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560" y="254988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73" idx="4"/>
              <a:endCxn id="274" idx="0"/>
            </p:cNvCxnSpPr>
            <p:nvPr/>
          </p:nvCxnSpPr>
          <p:spPr>
            <a:xfrm flipH="1">
              <a:off x="5211720" y="2752560"/>
              <a:ext cx="420120" cy="5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108840" y="312804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2040" y="320976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73" idx="4"/>
              <a:endCxn id="278" idx="0"/>
            </p:cNvCxnSpPr>
            <p:nvPr/>
          </p:nvCxnSpPr>
          <p:spPr>
            <a:xfrm>
              <a:off x="5632200" y="2752560"/>
              <a:ext cx="460080" cy="5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5547240" y="257616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27840" y="32702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06960" y="32702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80" idx="4"/>
              <a:endCxn id="273" idx="0"/>
            </p:cNvCxnSpPr>
            <p:nvPr/>
          </p:nvCxnSpPr>
          <p:spPr>
            <a:xfrm flipH="1">
              <a:off x="5631840" y="2324520"/>
              <a:ext cx="8640" cy="251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5555160" y="214812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11720" y="1866600"/>
              <a:ext cx="91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11720" y="1512720"/>
              <a:ext cx="91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91800" y="1512720"/>
              <a:ext cx="91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6840" y="3862080"/>
            <a:ext cx="8229960" cy="2157840"/>
            <a:chOff x="456840" y="3862080"/>
            <a:chExt cx="8229960" cy="2157840"/>
          </a:xfrm>
        </p:grpSpPr>
        <p:grpSp>
          <p:nvGrpSpPr>
            <p:cNvPr id="285" name=""/>
            <p:cNvGrpSpPr/>
            <p:nvPr/>
          </p:nvGrpSpPr>
          <p:grpSpPr>
            <a:xfrm>
              <a:off x="456840" y="3862080"/>
              <a:ext cx="8229960" cy="2157480"/>
              <a:chOff x="456840" y="3862080"/>
              <a:chExt cx="8229960" cy="21574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456840" y="3862080"/>
                <a:ext cx="8229960" cy="2157480"/>
                <a:chOff x="456840" y="3862080"/>
                <a:chExt cx="8229960" cy="215748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457200" y="3862440"/>
                  <a:ext cx="8229600" cy="2157120"/>
                  <a:chOff x="457200" y="3862440"/>
                  <a:chExt cx="8229600" cy="2157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1282680" y="3862440"/>
                    <a:ext cx="85572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500" spc="-1" strike="noStrike">
                        <a:solidFill>
                          <a:srgbClr val="008484"/>
                        </a:solidFill>
                        <a:latin typeface="Arial"/>
                      </a:rPr>
                      <a:t>T2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466040" y="5611680"/>
                    <a:ext cx="12207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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292800" y="5611680"/>
                    <a:ext cx="117324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4754520" y="5611680"/>
                    <a:ext cx="153828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33760" y="5611680"/>
                    <a:ext cx="12207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138400" y="5611680"/>
                    <a:ext cx="13953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57200" y="5611680"/>
                    <a:ext cx="1681200" cy="407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tal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466040" y="5173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292800" y="5173560"/>
                    <a:ext cx="117324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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754520" y="5173560"/>
                    <a:ext cx="15382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533760" y="5173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138400" y="5173560"/>
                    <a:ext cx="13953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57200" y="5173560"/>
                    <a:ext cx="168120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Austri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66040" y="4738680"/>
                    <a:ext cx="12207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292800" y="4738680"/>
                    <a:ext cx="117324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754520" y="4738680"/>
                    <a:ext cx="153828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533760" y="4738680"/>
                    <a:ext cx="12207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38400" y="4738680"/>
                    <a:ext cx="13953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57200" y="4738680"/>
                    <a:ext cx="1681200" cy="434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Euro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466040" y="4300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292800" y="4300560"/>
                    <a:ext cx="117324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754520" y="4300560"/>
                    <a:ext cx="15382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533760" y="43005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38400" y="4300560"/>
                    <a:ext cx="13953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57200" y="4300560"/>
                    <a:ext cx="168120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fr-FR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fr-FR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mage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466040" y="3862440"/>
                    <a:ext cx="12207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Austri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292800" y="3862440"/>
                    <a:ext cx="117324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tal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754520" y="3862440"/>
                    <a:ext cx="153828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533760" y="3862440"/>
                    <a:ext cx="12207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Picture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38400" y="3862440"/>
                    <a:ext cx="13953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539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Euro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57200" y="3862440"/>
                    <a:ext cx="82548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500" spc="-1" strike="noStrike">
                        <a:solidFill>
                          <a:srgbClr val="008484"/>
                        </a:solidFill>
                        <a:latin typeface="Arial"/>
                      </a:rPr>
                      <a:t>T1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57200" y="386244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57200" y="6019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572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86868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57200" y="4300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384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53376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75452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29280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466040" y="38624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7200" y="473868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57200" y="51735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57200" y="561168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456840" y="3862080"/>
                  <a:ext cx="7645680" cy="2078280"/>
                  <a:chOff x="456840" y="3862080"/>
                  <a:chExt cx="7645680" cy="2078280"/>
                </a:xfrm>
              </p:grpSpPr>
              <p:cxnSp>
                <p:nvCxnSpPr>
                  <p:cNvPr id="333" name=""/>
                  <p:cNvCxnSpPr/>
                  <p:nvPr/>
                </p:nvCxnSpPr>
                <p:spPr>
                  <a:xfrm>
                    <a:off x="456840" y="3862080"/>
                    <a:ext cx="1685160" cy="432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719080" y="4863960"/>
                    <a:ext cx="5383440" cy="1076400"/>
                    <a:chOff x="2719080" y="4863960"/>
                    <a:chExt cx="5383440" cy="1076400"/>
                  </a:xfrm>
                </p:grpSpPr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92840" y="4878360"/>
                      <a:ext cx="149400" cy="19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42320" y="4863960"/>
                      <a:ext cx="160200" cy="20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flipH="1">
                      <a:off x="2719080" y="5279760"/>
                      <a:ext cx="181080" cy="2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flipH="1">
                      <a:off x="2719080" y="5726160"/>
                      <a:ext cx="18108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sp>
            <p:nvSpPr>
              <p:cNvPr id="339" name=""/>
              <p:cNvSpPr/>
              <p:nvPr/>
            </p:nvSpPr>
            <p:spPr>
              <a:xfrm>
                <a:off x="4826160" y="3924360"/>
                <a:ext cx="6094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1" i="1" lang="it-IT" sz="1500" spc="-1" strike="noStrike" baseline="-25000">
                    <a:solidFill>
                      <a:srgbClr val="000099"/>
                    </a:solidFill>
                    <a:latin typeface="Times New Roman"/>
                  </a:rPr>
                  <a:t>Win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75320" y="3936960"/>
                <a:ext cx="73656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1" i="1" lang="it-IT" sz="1500" spc="-1" strike="noStrike" baseline="-25000">
                    <a:solidFill>
                      <a:srgbClr val="000099"/>
                    </a:solidFill>
                    <a:latin typeface="Times New Roman"/>
                  </a:rPr>
                  <a:t>Chees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11960" y="3873600"/>
              <a:ext cx="0" cy="21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C2CD-7C17-47C1-91C8-E9E0DE87AD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2320" y="982440"/>
            <a:ext cx="7162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4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pute relations between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8120" y="4241880"/>
            <a:ext cx="84632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xiom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(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ext</a:t>
            </a:r>
            <a:r>
              <a:rPr b="1" lang="it-IT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r>
              <a:rPr b="1" lang="it-IT" sz="18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, 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ontext</a:t>
            </a:r>
            <a:r>
              <a:rPr b="1" lang="it-IT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B</a:t>
            </a:r>
            <a:r>
              <a:rPr b="1" lang="it-IT" sz="18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j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)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propositional formula is valid iff its negation is unsatisfiable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1562040"/>
            <a:ext cx="806436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 Reduce the matching problem to a validity problem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We take the relations between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 computed in step 3 as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axiom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 for reasoning about relations between 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868400" y="2732040"/>
            <a:ext cx="3333960" cy="368280"/>
            <a:chOff x="1868400" y="2732040"/>
            <a:chExt cx="3333960" cy="368280"/>
          </a:xfrm>
        </p:grpSpPr>
        <p:sp>
          <p:nvSpPr>
            <p:cNvPr id="346" name=""/>
            <p:cNvSpPr/>
            <p:nvPr/>
          </p:nvSpPr>
          <p:spPr>
            <a:xfrm>
              <a:off x="1868400" y="273204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{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,     , 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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}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2944800" y="2863800"/>
              <a:ext cx="108000" cy="131760"/>
              <a:chOff x="2944800" y="2863800"/>
              <a:chExt cx="108000" cy="1317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944800" y="2863800"/>
                <a:ext cx="107640" cy="103680"/>
                <a:chOff x="2944800" y="2863800"/>
                <a:chExt cx="107640" cy="103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946960" y="2967480"/>
                  <a:ext cx="1051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44800" y="2863800"/>
                  <a:ext cx="107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52080" y="286380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2944800" y="2995560"/>
                <a:ext cx="108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336480" y="2865240"/>
              <a:ext cx="109800" cy="131760"/>
              <a:chOff x="3336480" y="2865240"/>
              <a:chExt cx="109800" cy="1317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3336840" y="2865240"/>
                <a:ext cx="109440" cy="103680"/>
                <a:chOff x="3336840" y="2865240"/>
                <a:chExt cx="109440" cy="103680"/>
              </a:xfrm>
            </p:grpSpPr>
            <p:sp>
              <p:nvSpPr>
                <p:cNvPr id="355" name=""/>
                <p:cNvSpPr/>
                <p:nvPr/>
              </p:nvSpPr>
              <p:spPr>
                <a:xfrm flipH="1">
                  <a:off x="3337200" y="2865240"/>
                  <a:ext cx="1069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3337200" y="2968920"/>
                  <a:ext cx="1090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3336840" y="28702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 flipH="1">
                <a:off x="3336480" y="2997000"/>
                <a:ext cx="1098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020840" y="2854440"/>
              <a:ext cx="112680" cy="145440"/>
              <a:chOff x="4020840" y="2854440"/>
              <a:chExt cx="112680" cy="145440"/>
            </a:xfrm>
          </p:grpSpPr>
          <p:sp>
            <p:nvSpPr>
              <p:cNvPr id="360" name=""/>
              <p:cNvSpPr/>
              <p:nvPr/>
            </p:nvSpPr>
            <p:spPr>
              <a:xfrm flipV="1">
                <a:off x="4133520" y="2855160"/>
                <a:ext cx="0" cy="14184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4020840" y="2855160"/>
                <a:ext cx="0" cy="144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4021560" y="2854440"/>
                <a:ext cx="10692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477720" y="3335400"/>
            <a:ext cx="783288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Construct the propositional form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(Context</a:t>
            </a:r>
            <a:r>
              <a:rPr b="1" lang="it-IT" sz="10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1" lang="it-IT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in Tree1 and Context</a:t>
            </a:r>
            <a:r>
              <a:rPr b="1" lang="it-IT" sz="1000" spc="-1" strike="noStrike">
                <a:solidFill>
                  <a:srgbClr val="808080"/>
                </a:solidFill>
                <a:latin typeface="Arial"/>
              </a:rPr>
              <a:t>B</a:t>
            </a:r>
            <a:r>
              <a:rPr b="1" lang="it-IT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in Tree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522B-C275-4533-B672-4B135069BF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9C85-F870-4916-81E7-DF607BBF0C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lement level Semantic Matcher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tring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labels as input and produce semantic relations exploiting string comparison techniqu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ense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WordNet senses in input and produce semantic relations exploiting structural properties of WordNet hierarchi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Gloss bas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have two WordNet senses as input and produce relations exploiting gloss comparison techniqu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C2A6-375D-4A09-A4BD-47C70ECAD8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lement level Semantic Matchers: Overview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544760" y="1573200"/>
            <a:ext cx="7535880" cy="465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C352-46B8-4466-9CF4-12061E8789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ring based matchers: Prefix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4160" y="1612800"/>
            <a:ext cx="82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ix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hecks whether one input label starts with the other. It returns an equivalence relation in this case, and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therwise</a:t>
            </a:r>
            <a:r>
              <a:rPr b="1" lang="ru-RU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efficient in matching cognate words and similar acronyms (e.g.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DF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DF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) but often syntactic similarity does not imply semantic relatedness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matcher returns equality f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ho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hotel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hich is wrong but it recognizes the right relations in the case of the pairs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network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a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441440" y="2487600"/>
            <a:ext cx="766440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C2A3-5E5F-41D2-93FA-EDA5A549B7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ring based matchers: Edit distanc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-360" y="1612800"/>
            <a:ext cx="853452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 Distance: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alculates the edit distance measure between two labels. The calculation includes counting the number of the simple editing operations i.e.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elete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nser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place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needed to convert one label into another. It is normalized by the max number of characters in the two lab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f the value exceeds a given threshold the equivalence relation is returned, otherwise,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produced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420920" y="4562640"/>
            <a:ext cx="7710480" cy="11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82F8-A24F-4157-9B88-114C6123C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nse based matchers: WordNet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51128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Net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returns a lexical relation which holds in WordNet between two input label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Lexical relations provided by WordNet are converted to semantic relations according to the following rules: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yponym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er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f B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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yper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ol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of B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= B if they are connected b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ynony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relation or the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elong to one syns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8484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 if they are connected by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ntonymy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relation or they are the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ibling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n th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art of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hierarchy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1390680" y="4995720"/>
            <a:ext cx="7727760" cy="13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9A92-9C52-4F0A-A000-F097B2FDD7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480" y="2298240"/>
            <a:ext cx="74552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he S-Match Algorith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and Future Work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BFF9-9168-43B8-AC8C-5015C8358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nse based matchers: Hierarchy distanc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470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y distance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returns the equivalence relation if the distance between two input senses in a WordNet hierarchy is less than a given threshold value and 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Idk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otherwis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390680" y="2854440"/>
            <a:ext cx="7727760" cy="820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64280" y="415620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00280" y="4049640"/>
            <a:ext cx="519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re is no direct relation between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ink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n WordNe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. However, the distance between these concepts is 2 (1 more general link and 1 less general). Thus, we can infer tha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r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ink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re close in their meaning and return the equivalence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5752-882F-440A-85BE-27D2A6CD7B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loss based matchers: WordNet glos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Net gloss: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ompares the labels of the first input sense with the WordNet gloss of the second on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Houn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any of several breeds of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do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used for hunting typically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having large drooping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ears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Hound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described through the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pecification of the more general concep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471680" y="2679840"/>
            <a:ext cx="7443720" cy="104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72DF-2E46-4251-BC3A-2F867C0F2A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loss based matchers: Gloss comparison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5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ss comparison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The number of the same words occurring in the two input glosses increases the similarity value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e equivalence relation is returned if the resulting similarity value exceeds a given threshold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Maltese do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s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re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of toy dogs having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lo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straight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silky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whit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at</a:t>
            </a:r>
            <a:r>
              <a:rPr b="0" lang="ru-RU" sz="1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Afghan houn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is a tall graceful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reed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of hound with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lo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silky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at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; native to the Near East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382760" y="3139920"/>
            <a:ext cx="7764480" cy="8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50CE-F3A2-4832-B8DD-3BC0583DE7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Conclusions and 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82400" y="1282320"/>
            <a:ext cx="7785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Library of 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5400" indent="-190440">
              <a:lnSpc>
                <a:spcPct val="125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9"/>
                </a:solidFill>
                <a:latin typeface="Arial"/>
              </a:rPr>
              <a:t>The result returned by a matcher is always a semantic relation or idk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valuate element level semantic matcher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dentify the element level matchers better suited for particular matching tasks 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5A39-EBF1-458A-8CF2-845C9B5EA0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193760" y="1600200"/>
            <a:ext cx="7228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D289-BB87-4639-8CEB-A7F4EA1810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88840" y="2971800"/>
            <a:ext cx="7747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4E94-67B7-42F8-A3F5-50F4515F6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tching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1840" y="2673360"/>
            <a:ext cx="7303680" cy="1850760"/>
            <a:chOff x="1401840" y="2673360"/>
            <a:chExt cx="7303680" cy="1850760"/>
          </a:xfrm>
        </p:grpSpPr>
        <p:sp>
          <p:nvSpPr>
            <p:cNvPr id="115" name=""/>
            <p:cNvSpPr/>
            <p:nvPr/>
          </p:nvSpPr>
          <p:spPr>
            <a:xfrm>
              <a:off x="4628880" y="302580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2040" y="267336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53200" y="390780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53160" y="3905280"/>
              <a:ext cx="168480" cy="146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75600" y="4064400"/>
              <a:ext cx="32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01840" y="4042080"/>
              <a:ext cx="31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Syntac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37520" y="3170880"/>
              <a:ext cx="1805400" cy="71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73960" y="3170880"/>
              <a:ext cx="184104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441440" y="4460760"/>
            <a:ext cx="299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computed betwe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abe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 = {x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0,1]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0800" y="4459320"/>
            <a:ext cx="3333600" cy="1059840"/>
            <a:chOff x="5500800" y="4459320"/>
            <a:chExt cx="3333600" cy="1059840"/>
          </a:xfrm>
        </p:grpSpPr>
        <p:sp>
          <p:nvSpPr>
            <p:cNvPr id="125" name=""/>
            <p:cNvSpPr/>
            <p:nvPr/>
          </p:nvSpPr>
          <p:spPr>
            <a:xfrm>
              <a:off x="5500800" y="4459320"/>
              <a:ext cx="3333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8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Relations ar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mputed between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concept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 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8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R = {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,     , 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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51640" y="5276880"/>
              <a:ext cx="108000" cy="131760"/>
              <a:chOff x="6551640" y="5276880"/>
              <a:chExt cx="108000" cy="131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551640" y="5276880"/>
                <a:ext cx="107640" cy="103680"/>
                <a:chOff x="6551640" y="5276880"/>
                <a:chExt cx="107640" cy="1036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553800" y="5380560"/>
                  <a:ext cx="1051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51640" y="5276880"/>
                  <a:ext cx="107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658920" y="52768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6551640" y="5408640"/>
                <a:ext cx="108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6640" y="5278680"/>
              <a:ext cx="109440" cy="131760"/>
              <a:chOff x="6956640" y="5278680"/>
              <a:chExt cx="109440" cy="1317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957000" y="5278680"/>
                <a:ext cx="109080" cy="103680"/>
                <a:chOff x="6957000" y="5278680"/>
                <a:chExt cx="109080" cy="103680"/>
              </a:xfrm>
            </p:grpSpPr>
            <p:sp>
              <p:nvSpPr>
                <p:cNvPr id="134" name=""/>
                <p:cNvSpPr/>
                <p:nvPr/>
              </p:nvSpPr>
              <p:spPr>
                <a:xfrm flipH="1">
                  <a:off x="6957360" y="5278680"/>
                  <a:ext cx="106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6957360" y="5382360"/>
                  <a:ext cx="1087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6957000" y="528372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 flipH="1">
                <a:off x="6956640" y="5410440"/>
                <a:ext cx="10944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627680" y="5280480"/>
              <a:ext cx="112680" cy="145800"/>
              <a:chOff x="7627680" y="5280480"/>
              <a:chExt cx="112680" cy="14580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7740360" y="5281200"/>
                <a:ext cx="0" cy="142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627680" y="5281200"/>
                <a:ext cx="0" cy="14508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628400" y="5280480"/>
                <a:ext cx="10692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1270080" y="55497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revious systems in the above sense are syntacti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52276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implementation CTXmatch [Bouquet 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. 20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given two graph-like structures (e.g., concept hierarchies or ontologies), produce a mapping between the nodes of the graphs that semantically correspond to each other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9635-E9CA-4FD8-96F1-5EA83B945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3504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 of a Label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16160" y="1481040"/>
            <a:ext cx="5238360" cy="2115720"/>
            <a:chOff x="2216160" y="1481040"/>
            <a:chExt cx="5238360" cy="2115720"/>
          </a:xfrm>
        </p:grpSpPr>
        <p:sp>
          <p:nvSpPr>
            <p:cNvPr id="148" name=""/>
            <p:cNvSpPr/>
            <p:nvPr/>
          </p:nvSpPr>
          <p:spPr>
            <a:xfrm>
              <a:off x="4935960" y="2299320"/>
              <a:ext cx="25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2216160" y="1481040"/>
              <a:ext cx="3856680" cy="2115720"/>
              <a:chOff x="2216160" y="1481040"/>
              <a:chExt cx="3856680" cy="2115720"/>
            </a:xfrm>
          </p:grpSpPr>
          <p:sp>
            <p:nvSpPr>
              <p:cNvPr id="150" name=""/>
              <p:cNvSpPr/>
              <p:nvPr/>
            </p:nvSpPr>
            <p:spPr>
              <a:xfrm>
                <a:off x="2404800" y="3197880"/>
                <a:ext cx="16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13160" y="1481040"/>
                <a:ext cx="15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2" name=""/>
              <p:cNvCxnSpPr>
                <a:stCxn id="153" idx="4"/>
                <a:endCxn id="154" idx="0"/>
              </p:cNvCxnSpPr>
              <p:nvPr/>
            </p:nvCxnSpPr>
            <p:spPr>
              <a:xfrm>
                <a:off x="3631320" y="258804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6" idx="4"/>
                <a:endCxn id="153" idx="0"/>
              </p:cNvCxnSpPr>
              <p:nvPr/>
            </p:nvCxnSpPr>
            <p:spPr>
              <a:xfrm flipH="1">
                <a:off x="3631320" y="2014920"/>
                <a:ext cx="57240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7" name=""/>
              <p:cNvSpPr/>
              <p:nvPr/>
            </p:nvSpPr>
            <p:spPr>
              <a:xfrm>
                <a:off x="4533840" y="3155400"/>
                <a:ext cx="153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8" name=""/>
              <p:cNvCxnSpPr>
                <a:stCxn id="159" idx="4"/>
                <a:endCxn id="160" idx="0"/>
              </p:cNvCxnSpPr>
              <p:nvPr/>
            </p:nvCxnSpPr>
            <p:spPr>
              <a:xfrm>
                <a:off x="4829040" y="2588040"/>
                <a:ext cx="1296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1" name=""/>
              <p:cNvSpPr/>
              <p:nvPr/>
            </p:nvSpPr>
            <p:spPr>
              <a:xfrm>
                <a:off x="2216160" y="2297520"/>
                <a:ext cx="152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2" name=""/>
              <p:cNvCxnSpPr>
                <a:stCxn id="156" idx="4"/>
                <a:endCxn id="159" idx="0"/>
              </p:cNvCxnSpPr>
              <p:nvPr/>
            </p:nvCxnSpPr>
            <p:spPr>
              <a:xfrm>
                <a:off x="4203720" y="2014920"/>
                <a:ext cx="62568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6" name=""/>
              <p:cNvSpPr/>
              <p:nvPr/>
            </p:nvSpPr>
            <p:spPr>
              <a:xfrm>
                <a:off x="4088160" y="180000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17920" y="23724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14920" y="23724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17920" y="3121560"/>
                <a:ext cx="22824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25360" y="312156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444600" y="3530520"/>
            <a:ext cx="81388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71360" indent="-171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17172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Labels in classification hierarchies are used to define the set of      documents one would like to classify under the node holding the lab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1717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 label has an intended meaning, which is what this label means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360" y="546084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ept of a label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set of documents that are about what the label means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E9D9-7571-4755-B0E6-90ABF17F87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3504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ept of a Nod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05280" y="3081240"/>
            <a:ext cx="5238360" cy="2115720"/>
            <a:chOff x="3905280" y="3081240"/>
            <a:chExt cx="5238360" cy="2115720"/>
          </a:xfrm>
        </p:grpSpPr>
        <p:sp>
          <p:nvSpPr>
            <p:cNvPr id="168" name=""/>
            <p:cNvSpPr/>
            <p:nvPr/>
          </p:nvSpPr>
          <p:spPr>
            <a:xfrm>
              <a:off x="6625080" y="3899520"/>
              <a:ext cx="25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905280" y="3081240"/>
              <a:ext cx="3856680" cy="2115720"/>
              <a:chOff x="3905280" y="3081240"/>
              <a:chExt cx="3856680" cy="2115720"/>
            </a:xfrm>
          </p:grpSpPr>
          <p:sp>
            <p:nvSpPr>
              <p:cNvPr id="170" name=""/>
              <p:cNvSpPr/>
              <p:nvPr/>
            </p:nvSpPr>
            <p:spPr>
              <a:xfrm>
                <a:off x="4093920" y="4798080"/>
                <a:ext cx="16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102280" y="3081240"/>
                <a:ext cx="15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73" idx="4"/>
                <a:endCxn id="174" idx="0"/>
              </p:cNvCxnSpPr>
              <p:nvPr/>
            </p:nvCxnSpPr>
            <p:spPr>
              <a:xfrm>
                <a:off x="5320440" y="4188240"/>
                <a:ext cx="108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5" name=""/>
              <p:cNvCxnSpPr>
                <a:stCxn id="176" idx="4"/>
                <a:endCxn id="173" idx="0"/>
              </p:cNvCxnSpPr>
              <p:nvPr/>
            </p:nvCxnSpPr>
            <p:spPr>
              <a:xfrm flipH="1">
                <a:off x="5320440" y="3615120"/>
                <a:ext cx="57240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7" name=""/>
              <p:cNvSpPr/>
              <p:nvPr/>
            </p:nvSpPr>
            <p:spPr>
              <a:xfrm>
                <a:off x="6222960" y="4755600"/>
                <a:ext cx="153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8" name=""/>
              <p:cNvCxnSpPr>
                <a:stCxn id="179" idx="4"/>
                <a:endCxn id="180" idx="0"/>
              </p:cNvCxnSpPr>
              <p:nvPr/>
            </p:nvCxnSpPr>
            <p:spPr>
              <a:xfrm>
                <a:off x="6518160" y="4188240"/>
                <a:ext cx="12960" cy="5338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81" name=""/>
              <p:cNvSpPr/>
              <p:nvPr/>
            </p:nvSpPr>
            <p:spPr>
              <a:xfrm>
                <a:off x="3905280" y="3897720"/>
                <a:ext cx="152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2" name=""/>
              <p:cNvCxnSpPr>
                <a:stCxn id="176" idx="4"/>
                <a:endCxn id="179" idx="0"/>
              </p:cNvCxnSpPr>
              <p:nvPr/>
            </p:nvCxnSpPr>
            <p:spPr>
              <a:xfrm>
                <a:off x="5892840" y="3615120"/>
                <a:ext cx="625680" cy="357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6" name=""/>
              <p:cNvSpPr/>
              <p:nvPr/>
            </p:nvSpPr>
            <p:spPr>
              <a:xfrm>
                <a:off x="5777280" y="340020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07040" y="39726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04040" y="3972600"/>
                <a:ext cx="22824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07040" y="4721760"/>
                <a:ext cx="22824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14480" y="4721760"/>
                <a:ext cx="229320" cy="21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533520" y="1523880"/>
            <a:ext cx="84182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tio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semantics of a label are the real world semant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semantics of the concept of a label are in the space of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relation being that the documents in the extension of the concept of a label are about what the label means in the real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245200"/>
            <a:ext cx="82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cept of a node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set of documents that we would classify under this node, given it has a certain label and it is positioned in a certain place in th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645000"/>
            <a:ext cx="3467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Trees add structure which allows us to perform the classification of documents more eff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16DE-306B-4C6C-A974-E8131AE2EE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42720" y="1498680"/>
            <a:ext cx="80895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ID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j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where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18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j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unique identifier of the given mapping element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25600" indent="-1753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relation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between the concepts at the given nodes.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5410080"/>
            <a:ext cx="8394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69800" y="3629160"/>
            <a:ext cx="7683480" cy="1694520"/>
            <a:chOff x="469800" y="3629160"/>
            <a:chExt cx="7683480" cy="1694520"/>
          </a:xfrm>
        </p:grpSpPr>
        <p:sp>
          <p:nvSpPr>
            <p:cNvPr id="190" name=""/>
            <p:cNvSpPr/>
            <p:nvPr/>
          </p:nvSpPr>
          <p:spPr>
            <a:xfrm>
              <a:off x="469800" y="3629160"/>
              <a:ext cx="76834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ismatch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overlapping {     }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931920" y="4438440"/>
              <a:ext cx="1533600" cy="796320"/>
              <a:chOff x="3931920" y="4438440"/>
              <a:chExt cx="1533600" cy="7963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4964040" y="4438440"/>
                <a:ext cx="108000" cy="131760"/>
                <a:chOff x="4964040" y="4438440"/>
                <a:chExt cx="108000" cy="1317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4964040" y="4438440"/>
                  <a:ext cx="107640" cy="103320"/>
                  <a:chOff x="4964040" y="4438440"/>
                  <a:chExt cx="107640" cy="1033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4966200" y="4541760"/>
                    <a:ext cx="1051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964040" y="4438440"/>
                    <a:ext cx="1072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5071320" y="4438800"/>
                    <a:ext cx="360" cy="9828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4964040" y="4570200"/>
                  <a:ext cx="1080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355720" y="4440240"/>
                <a:ext cx="109800" cy="131400"/>
                <a:chOff x="5355720" y="4440240"/>
                <a:chExt cx="109800" cy="13140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5356080" y="4440240"/>
                  <a:ext cx="109440" cy="103320"/>
                  <a:chOff x="5356080" y="4440240"/>
                  <a:chExt cx="109440" cy="103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flipH="1">
                    <a:off x="5356440" y="4440240"/>
                    <a:ext cx="1069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5356440" y="4543560"/>
                    <a:ext cx="1090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356080" y="4444920"/>
                    <a:ext cx="360" cy="9828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>
                  <a:off x="5355720" y="4571640"/>
                  <a:ext cx="1098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931920" y="5089320"/>
                <a:ext cx="112680" cy="145440"/>
                <a:chOff x="3931920" y="5089320"/>
                <a:chExt cx="112680" cy="14544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044600" y="5090040"/>
                  <a:ext cx="0" cy="14184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3931920" y="5090040"/>
                  <a:ext cx="0" cy="144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3932640" y="5089320"/>
                  <a:ext cx="106920" cy="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45B1-FBC9-462C-8E8F-C9F6AFAA7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he S-Match Algorithm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91EA-B74E-4217-8D4A-736DF455D1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0265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label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node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label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elations between concepts at label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nodes in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8484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compute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relations between 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1 and 2 constitute the preprocessing phase, and are executed once and each time after the tree is chang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FF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3 and 4 constitute the matching phase, and are executed every time the two trees are to be match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N 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75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ur Macro Step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44600" y="176688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ven two labeled trees T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EA09-6836-4E9F-A8E8-BF24B25B4E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server</cp:lastModifiedBy>
  <dcterms:modified xsi:type="dcterms:W3CDTF">2004-11-07T15:39:13Z</dcterms:modified>
  <cp:revision>712</cp:revision>
  <dc:subject/>
  <dc:title>S-Match ESWS</dc:title>
</cp:coreProperties>
</file>